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.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vels of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914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human body has five levels of organization.</a:t>
            </a: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bhspe-0928UO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5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97164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Specialized cells develop from a single zygote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56204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ms are made up of specialized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462960" y="2286000"/>
            <a:ext cx="8071560" cy="2882880"/>
            <a:chOff x="462960" y="2286000"/>
            <a:chExt cx="8071560" cy="2882880"/>
          </a:xfrm>
        </p:grpSpPr>
        <p:pic>
          <p:nvPicPr>
            <p:cNvPr id="85" name="Picture 4" descr="0852_bhspe-092801_a"/>
            <p:cNvPicPr/>
            <p:nvPr/>
          </p:nvPicPr>
          <p:blipFill>
            <a:blip r:embed="rId2"/>
            <a:stretch/>
          </p:blipFill>
          <p:spPr>
            <a:xfrm>
              <a:off x="533520" y="2286000"/>
              <a:ext cx="3809880" cy="252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" descr="0852_bhspe-092801_b"/>
            <p:cNvPicPr/>
            <p:nvPr/>
          </p:nvPicPr>
          <p:blipFill>
            <a:blip r:embed="rId3"/>
            <a:stretch/>
          </p:blipFill>
          <p:spPr>
            <a:xfrm>
              <a:off x="4724280" y="2286000"/>
              <a:ext cx="3810240" cy="25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462960" y="4876920"/>
              <a:ext cx="1250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d blood c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"/>
            <p:cNvSpPr/>
            <p:nvPr/>
          </p:nvSpPr>
          <p:spPr>
            <a:xfrm>
              <a:off x="4652280" y="4876920"/>
              <a:ext cx="98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rve cell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ygotes first divide into embryonic stem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33520" y="1523880"/>
            <a:ext cx="38862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em cells develop in two st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tion, or committing to become one ce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on, or acquiring specialized struct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0853_bhspe-092801"/>
          <p:cNvPicPr/>
          <p:nvPr/>
        </p:nvPicPr>
        <p:blipFill>
          <a:blip r:embed="rId1"/>
          <a:stretch/>
        </p:blipFill>
        <p:spPr>
          <a:xfrm>
            <a:off x="4394160" y="1628640"/>
            <a:ext cx="4281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9"/>
          <p:cNvGrpSpPr/>
          <p:nvPr/>
        </p:nvGrpSpPr>
        <p:grpSpPr>
          <a:xfrm>
            <a:off x="3481560" y="2514600"/>
            <a:ext cx="2309400" cy="2868120"/>
            <a:chOff x="3481560" y="2514600"/>
            <a:chExt cx="2309400" cy="2868120"/>
          </a:xfrm>
        </p:grpSpPr>
        <p:sp>
          <p:nvSpPr>
            <p:cNvPr id="93" name="Rectangle 7"/>
            <p:cNvSpPr/>
            <p:nvPr/>
          </p:nvSpPr>
          <p:spPr>
            <a:xfrm>
              <a:off x="3481560" y="5090760"/>
              <a:ext cx="230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8" descr="_x0008_855a.jpg                                                       0006B018&#9;Macintosh                      BEB7E0B0:"/>
            <p:cNvPicPr/>
            <p:nvPr/>
          </p:nvPicPr>
          <p:blipFill>
            <a:blip r:embed="rId1"/>
            <a:stretch/>
          </p:blipFill>
          <p:spPr>
            <a:xfrm>
              <a:off x="3850920" y="2514600"/>
              <a:ext cx="1782000" cy="265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802440"/>
            <a:ext cx="8915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Specialized cells function together in tissues, organs, organ systems, and the whole organism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1600" y="160020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ed cells perform specific tas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61960" y="20318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ssues are groups of similar cells working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7"/>
          <p:cNvGrpSpPr/>
          <p:nvPr/>
        </p:nvGrpSpPr>
        <p:grpSpPr>
          <a:xfrm>
            <a:off x="5440320" y="3451320"/>
            <a:ext cx="2941200" cy="3255840"/>
            <a:chOff x="5440320" y="3451320"/>
            <a:chExt cx="2941200" cy="3255840"/>
          </a:xfrm>
        </p:grpSpPr>
        <p:sp>
          <p:nvSpPr>
            <p:cNvPr id="99" name="Rectangle 8"/>
            <p:cNvSpPr/>
            <p:nvPr/>
          </p:nvSpPr>
          <p:spPr>
            <a:xfrm>
              <a:off x="6504840" y="6415200"/>
              <a:ext cx="90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iss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6" descr="_x0008_855b.jpg                                                       0006B018&#9;Macintosh                      BEB7E0B0:"/>
            <p:cNvPicPr/>
            <p:nvPr/>
          </p:nvPicPr>
          <p:blipFill>
            <a:blip r:embed="rId3"/>
            <a:stretch/>
          </p:blipFill>
          <p:spPr>
            <a:xfrm>
              <a:off x="5440320" y="3451320"/>
              <a:ext cx="2941200" cy="29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Rectangle 20"/>
          <p:cNvSpPr/>
          <p:nvPr/>
        </p:nvSpPr>
        <p:spPr>
          <a:xfrm>
            <a:off x="533520" y="2463840"/>
            <a:ext cx="3429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pithelial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ive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 t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rvous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94284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s are different tissues working togeth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3520" y="137160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systems are two or more organs working tog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m is all organ systems working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1526760" y="2424240"/>
            <a:ext cx="5102280" cy="4245120"/>
            <a:chOff x="1526760" y="2424240"/>
            <a:chExt cx="5102280" cy="4245120"/>
          </a:xfrm>
        </p:grpSpPr>
        <p:pic>
          <p:nvPicPr>
            <p:cNvPr id="105" name="Picture 6" descr="bhspe-092801-023"/>
            <p:cNvPicPr/>
            <p:nvPr/>
          </p:nvPicPr>
          <p:blipFill>
            <a:blip r:embed="rId1"/>
            <a:stretch/>
          </p:blipFill>
          <p:spPr>
            <a:xfrm>
              <a:off x="2511720" y="2424240"/>
              <a:ext cx="4117320" cy="411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Group 12"/>
            <p:cNvGrpSpPr/>
            <p:nvPr/>
          </p:nvGrpSpPr>
          <p:grpSpPr>
            <a:xfrm>
              <a:off x="1526760" y="3180960"/>
              <a:ext cx="1808280" cy="1527120"/>
              <a:chOff x="1526760" y="3180960"/>
              <a:chExt cx="1808280" cy="1527120"/>
            </a:xfrm>
          </p:grpSpPr>
          <p:sp>
            <p:nvSpPr>
              <p:cNvPr id="107" name="Text Box 8"/>
              <p:cNvSpPr/>
              <p:nvPr/>
            </p:nvSpPr>
            <p:spPr>
              <a:xfrm>
                <a:off x="1691640" y="3180960"/>
                <a:ext cx="903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ORGA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9"/>
              <p:cNvSpPr/>
              <p:nvPr/>
            </p:nvSpPr>
            <p:spPr>
              <a:xfrm>
                <a:off x="1526760" y="4416120"/>
                <a:ext cx="1515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ORGAN SYSTE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0"/>
              <p:cNvSpPr/>
              <p:nvPr/>
            </p:nvSpPr>
            <p:spPr>
              <a:xfrm>
                <a:off x="2594160" y="3329640"/>
                <a:ext cx="3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1"/>
              <p:cNvSpPr/>
              <p:nvPr/>
            </p:nvSpPr>
            <p:spPr>
              <a:xfrm flipV="1">
                <a:off x="2923560" y="4483080"/>
                <a:ext cx="411480" cy="8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13"/>
            <p:cNvSpPr/>
            <p:nvPr/>
          </p:nvSpPr>
          <p:spPr>
            <a:xfrm>
              <a:off x="4326840" y="6377400"/>
              <a:ext cx="1086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0476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11 major organ systems in the human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_x0007_856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469800" y="1487520"/>
            <a:ext cx="82170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ITSUser</cp:lastModifiedBy>
  <dcterms:modified xsi:type="dcterms:W3CDTF">2010-09-02T17:17:19Z</dcterms:modified>
  <cp:revision>60</cp:revision>
  <dc:subject/>
  <dc:title>PowerPoint Presentation</dc:title>
</cp:coreProperties>
</file>