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w Organ Systems Communic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8715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and the endocrine system provide the means by which organ systems communica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bhspe-0929co-001"/>
          <p:cNvPicPr/>
          <p:nvPr/>
        </p:nvPicPr>
        <p:blipFill>
          <a:blip r:embed="rId1"/>
          <a:stretch/>
        </p:blipFill>
        <p:spPr>
          <a:xfrm>
            <a:off x="1905120" y="2629080"/>
            <a:ext cx="534348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810360"/>
            <a:ext cx="8915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body’s communication systems help maintain homeostasi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676520"/>
            <a:ext cx="85820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timulus causes a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es can be chemical, cellular, or behavi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and endocrine systems respond to stimu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alpana.dubey\My Documents\Alpana\New _29TH\bhspe-092802-001.gif"/>
          <p:cNvPicPr/>
          <p:nvPr/>
        </p:nvPicPr>
        <p:blipFill>
          <a:blip r:embed="rId2"/>
          <a:stretch/>
        </p:blipFill>
        <p:spPr>
          <a:xfrm>
            <a:off x="2057400" y="3048120"/>
            <a:ext cx="5029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56880"/>
            <a:ext cx="49528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controls thoughts, movement, and emo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33520" y="226836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docrine system controls growth, development, and diges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bhspe-092901-001"/>
          <p:cNvPicPr/>
          <p:nvPr/>
        </p:nvPicPr>
        <p:blipFill>
          <a:blip r:embed="rId1"/>
          <a:stretch/>
        </p:blipFill>
        <p:spPr>
          <a:xfrm>
            <a:off x="5568840" y="1066680"/>
            <a:ext cx="2432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793440"/>
            <a:ext cx="8915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nervous and endocrine systems have different methods and rates of communication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733040"/>
            <a:ext cx="80010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works quickly, using chemical and electrical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bhspe-092901-002"/>
          <p:cNvPicPr/>
          <p:nvPr/>
        </p:nvPicPr>
        <p:blipFill>
          <a:blip r:embed="rId2"/>
          <a:stretch/>
        </p:blipFill>
        <p:spPr>
          <a:xfrm>
            <a:off x="5562720" y="2743200"/>
            <a:ext cx="2922480" cy="35812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6"/>
          <p:cNvGrpSpPr/>
          <p:nvPr/>
        </p:nvGrpSpPr>
        <p:grpSpPr>
          <a:xfrm>
            <a:off x="7162920" y="4648320"/>
            <a:ext cx="1218600" cy="761760"/>
            <a:chOff x="7162920" y="4648320"/>
            <a:chExt cx="1218600" cy="761760"/>
          </a:xfrm>
        </p:grpSpPr>
        <p:sp>
          <p:nvSpPr>
            <p:cNvPr id="92" name="Line 8"/>
            <p:cNvSpPr/>
            <p:nvPr/>
          </p:nvSpPr>
          <p:spPr>
            <a:xfrm flipV="1">
              <a:off x="7162920" y="5029200"/>
              <a:ext cx="45684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543800" y="4648320"/>
              <a:ext cx="837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pinal chord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5791320" y="5105520"/>
            <a:ext cx="838080" cy="532800"/>
            <a:chOff x="5791320" y="5105520"/>
            <a:chExt cx="838080" cy="532800"/>
          </a:xfrm>
        </p:grpSpPr>
        <p:sp>
          <p:nvSpPr>
            <p:cNvPr id="95" name="Text Box 11"/>
            <p:cNvSpPr/>
            <p:nvPr/>
          </p:nvSpPr>
          <p:spPr>
            <a:xfrm>
              <a:off x="5791320" y="5173560"/>
              <a:ext cx="838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rv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 flipV="1">
              <a:off x="6400800" y="5105520"/>
              <a:ext cx="22860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>
              <a:off x="6324480" y="5410080"/>
              <a:ext cx="22860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>
              <a:off x="6400800" y="54100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7"/>
          <p:cNvSpPr/>
          <p:nvPr/>
        </p:nvSpPr>
        <p:spPr>
          <a:xfrm>
            <a:off x="457200" y="2666880"/>
            <a:ext cx="466416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connected network of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move through ce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d into central nervous system (CNS) and peripheral nervous system (P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bhspe-092906-002"/>
          <p:cNvPicPr/>
          <p:nvPr/>
        </p:nvPicPr>
        <p:blipFill>
          <a:blip r:embed="rId1"/>
          <a:stretch/>
        </p:blipFill>
        <p:spPr>
          <a:xfrm>
            <a:off x="1874880" y="2666880"/>
            <a:ext cx="165420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docrine system works more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33520" y="1500120"/>
            <a:ext cx="8582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y chemical sig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move through bloodstrea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ly unconnected org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bhspe-092906-008"/>
          <p:cNvPicPr/>
          <p:nvPr/>
        </p:nvPicPr>
        <p:blipFill>
          <a:blip r:embed="rId2"/>
          <a:stretch/>
        </p:blipFill>
        <p:spPr>
          <a:xfrm>
            <a:off x="4876920" y="2971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4724280" y="3641760"/>
            <a:ext cx="91440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724280" y="55627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6934320" y="3429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7315200" y="5791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3429000" y="5867280"/>
            <a:ext cx="1676520" cy="304920"/>
            <a:chOff x="3429000" y="5867280"/>
            <a:chExt cx="1676520" cy="304920"/>
          </a:xfrm>
        </p:grpSpPr>
        <p:sp>
          <p:nvSpPr>
            <p:cNvPr id="109" name="Rectangle 21"/>
            <p:cNvSpPr/>
            <p:nvPr/>
          </p:nvSpPr>
          <p:spPr>
            <a:xfrm>
              <a:off x="3429000" y="5867280"/>
              <a:ext cx="1295640" cy="304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3581640" y="5867280"/>
              <a:ext cx="1523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6477120" y="3124080"/>
            <a:ext cx="1675800" cy="304920"/>
            <a:chOff x="6477120" y="3124080"/>
            <a:chExt cx="1675800" cy="304920"/>
          </a:xfrm>
        </p:grpSpPr>
        <p:sp>
          <p:nvSpPr>
            <p:cNvPr id="112" name="Rectangle 24"/>
            <p:cNvSpPr/>
            <p:nvPr/>
          </p:nvSpPr>
          <p:spPr>
            <a:xfrm>
              <a:off x="6477120" y="3124080"/>
              <a:ext cx="1295280" cy="304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6629400" y="3124080"/>
              <a:ext cx="152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arget cel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9"/>
          <p:cNvGrpSpPr/>
          <p:nvPr/>
        </p:nvGrpSpPr>
        <p:grpSpPr>
          <a:xfrm>
            <a:off x="7315200" y="6172200"/>
            <a:ext cx="2286000" cy="304920"/>
            <a:chOff x="7315200" y="6172200"/>
            <a:chExt cx="2286000" cy="304920"/>
          </a:xfrm>
        </p:grpSpPr>
        <p:sp>
          <p:nvSpPr>
            <p:cNvPr id="115" name="Rectangle 27"/>
            <p:cNvSpPr/>
            <p:nvPr/>
          </p:nvSpPr>
          <p:spPr>
            <a:xfrm>
              <a:off x="7315200" y="6172200"/>
              <a:ext cx="1766880" cy="304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7523280" y="6172200"/>
              <a:ext cx="2077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ot a target cel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33"/>
          <p:cNvGrpSpPr/>
          <p:nvPr/>
        </p:nvGrpSpPr>
        <p:grpSpPr>
          <a:xfrm>
            <a:off x="4648320" y="4281480"/>
            <a:ext cx="1676160" cy="366840"/>
            <a:chOff x="4648320" y="4281480"/>
            <a:chExt cx="1676160" cy="366840"/>
          </a:xfrm>
        </p:grpSpPr>
        <p:sp>
          <p:nvSpPr>
            <p:cNvPr id="118" name="Line 31"/>
            <p:cNvSpPr/>
            <p:nvPr/>
          </p:nvSpPr>
          <p:spPr>
            <a:xfrm>
              <a:off x="5715000" y="44956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2"/>
            <p:cNvSpPr/>
            <p:nvPr/>
          </p:nvSpPr>
          <p:spPr>
            <a:xfrm>
              <a:off x="4648320" y="4281480"/>
              <a:ext cx="1371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loodstream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3505320" y="3352680"/>
            <a:ext cx="1675800" cy="304920"/>
            <a:chOff x="3505320" y="3352680"/>
            <a:chExt cx="1675800" cy="304920"/>
          </a:xfrm>
        </p:grpSpPr>
        <p:sp>
          <p:nvSpPr>
            <p:cNvPr id="121" name="Rectangle 18"/>
            <p:cNvSpPr/>
            <p:nvPr/>
          </p:nvSpPr>
          <p:spPr>
            <a:xfrm>
              <a:off x="3505320" y="3352680"/>
              <a:ext cx="1295280" cy="304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3657600" y="3352680"/>
              <a:ext cx="1523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hormone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4:05Z</dcterms:modified>
  <cp:revision>90</cp:revision>
  <dc:subject/>
  <dc:title>PowerPoint Presentation</dc:title>
</cp:coreProperties>
</file>