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49B2-F87C-42FF-8620-7D78F64BA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A194-FACF-419F-82A0-D13516754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B60BF-99E6-4ABC-826D-995C412CB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F6D3-A112-4E6E-A5CC-EF9B6839E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2761-2D58-437C-9345-03B5AA227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2E5B0-D229-46B2-B5AE-B74A80412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3EEA-9157-49C1-AAB4-841258656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FA54D-A46D-476F-9FCF-7BFA06EB3D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C28F-6568-4676-AA0C-0DB3C7AC91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65C6-9F2F-4A96-BB1D-190E3E3AA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F8E8-D03F-43BA-97AC-2D4CD875F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F4A88-57AB-4E10-BAF5-DA7FF7F93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80A63-0621-4E6A-A05B-FBD1F1C11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66F6-83DE-4507-A9F0-8B63459BB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1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952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1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952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1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952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1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952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_x000b_9topbar.jpg                                                    006EF729&#9;Macintosh                      BE4B3FBF:"/>
          <p:cNvPicPr/>
          <p:nvPr/>
        </p:nvPicPr>
        <p:blipFill>
          <a:blip r:embed="rId2"/>
          <a:stretch/>
        </p:blipFill>
        <p:spPr>
          <a:xfrm>
            <a:off x="0" y="0"/>
            <a:ext cx="9144000" cy="708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0" y="46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.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uro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_x000e_header-ch3.gif                                                 00463CA1&#9;Macintosh                      BE4B3FBF: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5"/>
          <p:cNvSpPr/>
          <p:nvPr/>
        </p:nvSpPr>
        <p:spPr>
          <a:xfrm>
            <a:off x="0" y="4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.1 Ecologists Study Relationsh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533520" y="9288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KEY CONCE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nervous system is composed of highly specialized cel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bhspe-0929co-001"/>
          <p:cNvPicPr/>
          <p:nvPr/>
        </p:nvPicPr>
        <p:blipFill>
          <a:blip r:embed="rId1"/>
          <a:stretch/>
        </p:blipFill>
        <p:spPr>
          <a:xfrm>
            <a:off x="1752480" y="2171880"/>
            <a:ext cx="5791320" cy="42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chemical signal passes between neu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533520" y="14763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ulse reaches termi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2" descr="bhspe-092902-007"/>
          <p:cNvPicPr/>
          <p:nvPr/>
        </p:nvPicPr>
        <p:blipFill>
          <a:blip r:embed="rId1"/>
          <a:stretch/>
        </p:blipFill>
        <p:spPr>
          <a:xfrm>
            <a:off x="990720" y="4114800"/>
            <a:ext cx="3120840" cy="1039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21"/>
          <p:cNvSpPr/>
          <p:nvPr/>
        </p:nvSpPr>
        <p:spPr>
          <a:xfrm>
            <a:off x="1757520" y="4052880"/>
            <a:ext cx="834840" cy="291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mpuls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chemical signal passes between neu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533520" y="14763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ulse reaches termi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2" descr="bhspe-092902-008"/>
          <p:cNvPicPr/>
          <p:nvPr/>
        </p:nvPicPr>
        <p:blipFill>
          <a:blip r:embed="rId1"/>
          <a:stretch/>
        </p:blipFill>
        <p:spPr>
          <a:xfrm>
            <a:off x="990720" y="4114800"/>
            <a:ext cx="3120840" cy="10396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289240" y="4052880"/>
            <a:ext cx="834840" cy="291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mpuls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chemical signal passes between neu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533520" y="14763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ulse reaches termi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bhspe-092902-006"/>
          <p:cNvPicPr/>
          <p:nvPr/>
        </p:nvPicPr>
        <p:blipFill>
          <a:blip r:embed="rId1"/>
          <a:stretch/>
        </p:blipFill>
        <p:spPr>
          <a:xfrm>
            <a:off x="4832280" y="3657600"/>
            <a:ext cx="284328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5"/>
          <p:cNvGrpSpPr/>
          <p:nvPr/>
        </p:nvGrpSpPr>
        <p:grpSpPr>
          <a:xfrm>
            <a:off x="5823000" y="3733920"/>
            <a:ext cx="762120" cy="457200"/>
            <a:chOff x="5823000" y="3733920"/>
            <a:chExt cx="762120" cy="457200"/>
          </a:xfrm>
        </p:grpSpPr>
        <p:sp>
          <p:nvSpPr>
            <p:cNvPr id="164" name="Line 6"/>
            <p:cNvSpPr/>
            <p:nvPr/>
          </p:nvSpPr>
          <p:spPr>
            <a:xfrm flipV="1">
              <a:off x="5823000" y="4038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>
              <a:off x="5823000" y="4038840"/>
              <a:ext cx="64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6467760" y="40388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5823000" y="3733920"/>
              <a:ext cx="762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ynapse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3"/>
          <p:cNvGrpSpPr/>
          <p:nvPr/>
        </p:nvGrpSpPr>
        <p:grpSpPr>
          <a:xfrm>
            <a:off x="6515280" y="4770360"/>
            <a:ext cx="1295280" cy="611280"/>
            <a:chOff x="6515280" y="4770360"/>
            <a:chExt cx="1295280" cy="611280"/>
          </a:xfrm>
        </p:grpSpPr>
        <p:sp>
          <p:nvSpPr>
            <p:cNvPr id="169" name="Line 14"/>
            <p:cNvSpPr/>
            <p:nvPr/>
          </p:nvSpPr>
          <p:spPr>
            <a:xfrm>
              <a:off x="6515280" y="4770360"/>
              <a:ext cx="45720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6896160" y="508968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ceptor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6"/>
          <p:cNvGrpSpPr/>
          <p:nvPr/>
        </p:nvGrpSpPr>
        <p:grpSpPr>
          <a:xfrm>
            <a:off x="4800600" y="4770360"/>
            <a:ext cx="1143000" cy="763560"/>
            <a:chOff x="4800600" y="4770360"/>
            <a:chExt cx="1143000" cy="763560"/>
          </a:xfrm>
        </p:grpSpPr>
        <p:sp>
          <p:nvSpPr>
            <p:cNvPr id="172" name="Line 17"/>
            <p:cNvSpPr/>
            <p:nvPr/>
          </p:nvSpPr>
          <p:spPr>
            <a:xfrm flipH="1">
              <a:off x="5410080" y="4770360"/>
              <a:ext cx="1522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8"/>
            <p:cNvSpPr/>
            <p:nvPr/>
          </p:nvSpPr>
          <p:spPr>
            <a:xfrm flipV="1">
              <a:off x="5410440" y="484668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4800600" y="5241960"/>
              <a:ext cx="990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vesicles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Picture 22" descr="bhspe-092902-009"/>
          <p:cNvPicPr/>
          <p:nvPr/>
        </p:nvPicPr>
        <p:blipFill>
          <a:blip r:embed="rId2"/>
          <a:stretch/>
        </p:blipFill>
        <p:spPr>
          <a:xfrm>
            <a:off x="990720" y="4114800"/>
            <a:ext cx="3120840" cy="10396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2898720" y="4052880"/>
            <a:ext cx="835200" cy="291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mpuls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23"/>
          <p:cNvGrpSpPr/>
          <p:nvPr/>
        </p:nvGrpSpPr>
        <p:grpSpPr>
          <a:xfrm>
            <a:off x="6261120" y="4541760"/>
            <a:ext cx="2889360" cy="291960"/>
            <a:chOff x="6261120" y="4541760"/>
            <a:chExt cx="2889360" cy="291960"/>
          </a:xfrm>
        </p:grpSpPr>
        <p:sp>
          <p:nvSpPr>
            <p:cNvPr id="178" name="Line 24"/>
            <p:cNvSpPr/>
            <p:nvPr/>
          </p:nvSpPr>
          <p:spPr>
            <a:xfrm>
              <a:off x="6261120" y="469872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5"/>
            <p:cNvSpPr/>
            <p:nvPr/>
          </p:nvSpPr>
          <p:spPr>
            <a:xfrm>
              <a:off x="7550280" y="4541760"/>
              <a:ext cx="1600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neurotransmitter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Rectangle 26"/>
          <p:cNvSpPr/>
          <p:nvPr/>
        </p:nvSpPr>
        <p:spPr>
          <a:xfrm>
            <a:off x="533520" y="19112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rotransmitters released into synaps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chemical signal passes between neu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533520" y="1476360"/>
            <a:ext cx="86104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ulse reaches termi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rotransmitters released into synaps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2" descr="bhspe-092902-010"/>
          <p:cNvPicPr/>
          <p:nvPr/>
        </p:nvPicPr>
        <p:blipFill>
          <a:blip r:embed="rId1"/>
          <a:stretch/>
        </p:blipFill>
        <p:spPr>
          <a:xfrm>
            <a:off x="990720" y="4111560"/>
            <a:ext cx="3120840" cy="10400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1"/>
          <p:cNvSpPr/>
          <p:nvPr/>
        </p:nvSpPr>
        <p:spPr>
          <a:xfrm>
            <a:off x="3281400" y="4052880"/>
            <a:ext cx="834840" cy="291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mpuls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6" descr="bhspe-092902-006"/>
          <p:cNvPicPr/>
          <p:nvPr/>
        </p:nvPicPr>
        <p:blipFill>
          <a:blip r:embed="rId2"/>
          <a:stretch/>
        </p:blipFill>
        <p:spPr>
          <a:xfrm>
            <a:off x="4826160" y="3657600"/>
            <a:ext cx="284292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27"/>
          <p:cNvGrpSpPr/>
          <p:nvPr/>
        </p:nvGrpSpPr>
        <p:grpSpPr>
          <a:xfrm>
            <a:off x="5816520" y="3733920"/>
            <a:ext cx="762120" cy="457200"/>
            <a:chOff x="5816520" y="3733920"/>
            <a:chExt cx="762120" cy="457200"/>
          </a:xfrm>
        </p:grpSpPr>
        <p:sp>
          <p:nvSpPr>
            <p:cNvPr id="187" name="Line 28"/>
            <p:cNvSpPr/>
            <p:nvPr/>
          </p:nvSpPr>
          <p:spPr>
            <a:xfrm flipV="1">
              <a:off x="5816520" y="4038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9"/>
            <p:cNvSpPr/>
            <p:nvPr/>
          </p:nvSpPr>
          <p:spPr>
            <a:xfrm>
              <a:off x="5816520" y="4038840"/>
              <a:ext cx="64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0"/>
            <p:cNvSpPr/>
            <p:nvPr/>
          </p:nvSpPr>
          <p:spPr>
            <a:xfrm>
              <a:off x="6461280" y="40388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31"/>
            <p:cNvSpPr/>
            <p:nvPr/>
          </p:nvSpPr>
          <p:spPr>
            <a:xfrm>
              <a:off x="5816520" y="3733920"/>
              <a:ext cx="762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ynapse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2"/>
          <p:cNvGrpSpPr/>
          <p:nvPr/>
        </p:nvGrpSpPr>
        <p:grpSpPr>
          <a:xfrm>
            <a:off x="6508800" y="4770360"/>
            <a:ext cx="1295280" cy="611280"/>
            <a:chOff x="6508800" y="4770360"/>
            <a:chExt cx="1295280" cy="611280"/>
          </a:xfrm>
        </p:grpSpPr>
        <p:sp>
          <p:nvSpPr>
            <p:cNvPr id="192" name="Line 33"/>
            <p:cNvSpPr/>
            <p:nvPr/>
          </p:nvSpPr>
          <p:spPr>
            <a:xfrm>
              <a:off x="6508800" y="4770360"/>
              <a:ext cx="45720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34"/>
            <p:cNvSpPr/>
            <p:nvPr/>
          </p:nvSpPr>
          <p:spPr>
            <a:xfrm>
              <a:off x="6889680" y="508968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ceptor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5"/>
          <p:cNvGrpSpPr/>
          <p:nvPr/>
        </p:nvGrpSpPr>
        <p:grpSpPr>
          <a:xfrm>
            <a:off x="4794120" y="4770360"/>
            <a:ext cx="1143000" cy="763560"/>
            <a:chOff x="4794120" y="4770360"/>
            <a:chExt cx="1143000" cy="763560"/>
          </a:xfrm>
        </p:grpSpPr>
        <p:sp>
          <p:nvSpPr>
            <p:cNvPr id="195" name="Line 36"/>
            <p:cNvSpPr/>
            <p:nvPr/>
          </p:nvSpPr>
          <p:spPr>
            <a:xfrm flipH="1">
              <a:off x="5403600" y="4770360"/>
              <a:ext cx="1522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7"/>
            <p:cNvSpPr/>
            <p:nvPr/>
          </p:nvSpPr>
          <p:spPr>
            <a:xfrm flipV="1">
              <a:off x="5403960" y="484668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38"/>
            <p:cNvSpPr/>
            <p:nvPr/>
          </p:nvSpPr>
          <p:spPr>
            <a:xfrm>
              <a:off x="4794120" y="5241960"/>
              <a:ext cx="990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vesicles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39"/>
          <p:cNvGrpSpPr/>
          <p:nvPr/>
        </p:nvGrpSpPr>
        <p:grpSpPr>
          <a:xfrm>
            <a:off x="6254640" y="4541760"/>
            <a:ext cx="2889360" cy="291960"/>
            <a:chOff x="6254640" y="4541760"/>
            <a:chExt cx="2889360" cy="291960"/>
          </a:xfrm>
        </p:grpSpPr>
        <p:sp>
          <p:nvSpPr>
            <p:cNvPr id="199" name="Line 40"/>
            <p:cNvSpPr/>
            <p:nvPr/>
          </p:nvSpPr>
          <p:spPr>
            <a:xfrm>
              <a:off x="6254640" y="469872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41"/>
            <p:cNvSpPr/>
            <p:nvPr/>
          </p:nvSpPr>
          <p:spPr>
            <a:xfrm>
              <a:off x="7543800" y="4541760"/>
              <a:ext cx="1600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neurotransmitter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42"/>
          <p:cNvSpPr/>
          <p:nvPr/>
        </p:nvSpPr>
        <p:spPr>
          <a:xfrm>
            <a:off x="533520" y="2362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rotransmitters stimulate next cel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1200" y="816120"/>
            <a:ext cx="89028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Neurons are highly specialized cells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47200" y="1374480"/>
            <a:ext cx="8582040" cy="89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neuron has three 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ll body has nucleus and organ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bhspe-092902-001"/>
          <p:cNvPicPr/>
          <p:nvPr/>
        </p:nvPicPr>
        <p:blipFill>
          <a:blip r:embed="rId2"/>
          <a:stretch/>
        </p:blipFill>
        <p:spPr>
          <a:xfrm>
            <a:off x="609480" y="2924280"/>
            <a:ext cx="8229600" cy="324792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10"/>
          <p:cNvGrpSpPr/>
          <p:nvPr/>
        </p:nvGrpSpPr>
        <p:grpSpPr>
          <a:xfrm>
            <a:off x="609480" y="2895480"/>
            <a:ext cx="2286000" cy="1371600"/>
            <a:chOff x="609480" y="2895480"/>
            <a:chExt cx="2286000" cy="1371600"/>
          </a:xfrm>
        </p:grpSpPr>
        <p:sp>
          <p:nvSpPr>
            <p:cNvPr id="93" name="Line 7"/>
            <p:cNvSpPr/>
            <p:nvPr/>
          </p:nvSpPr>
          <p:spPr>
            <a:xfrm>
              <a:off x="914400" y="3124080"/>
              <a:ext cx="1828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9"/>
            <p:cNvGrpSpPr/>
            <p:nvPr/>
          </p:nvGrpSpPr>
          <p:grpSpPr>
            <a:xfrm>
              <a:off x="609480" y="2895480"/>
              <a:ext cx="2286000" cy="382680"/>
              <a:chOff x="609480" y="2895480"/>
              <a:chExt cx="2286000" cy="382680"/>
            </a:xfrm>
          </p:grpSpPr>
          <p:sp>
            <p:nvSpPr>
              <p:cNvPr id="95" name="Oval 6"/>
              <p:cNvSpPr/>
              <p:nvPr/>
            </p:nvSpPr>
            <p:spPr>
              <a:xfrm>
                <a:off x="609480" y="2895480"/>
                <a:ext cx="380880" cy="3812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8"/>
              <p:cNvSpPr/>
              <p:nvPr/>
            </p:nvSpPr>
            <p:spPr>
              <a:xfrm>
                <a:off x="990360" y="2986200"/>
                <a:ext cx="19051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ell body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547560" y="2287440"/>
            <a:ext cx="85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ndrites receive impul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1200" y="816120"/>
            <a:ext cx="89028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Neurons are highly specialized cells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47200" y="1374480"/>
            <a:ext cx="8582040" cy="89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neuron has three 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ll body has nucleus and organ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bhspe-092902-001"/>
          <p:cNvPicPr/>
          <p:nvPr/>
        </p:nvPicPr>
        <p:blipFill>
          <a:blip r:embed="rId2"/>
          <a:stretch/>
        </p:blipFill>
        <p:spPr>
          <a:xfrm>
            <a:off x="609480" y="2924280"/>
            <a:ext cx="8229600" cy="324792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20"/>
          <p:cNvGrpSpPr/>
          <p:nvPr/>
        </p:nvGrpSpPr>
        <p:grpSpPr>
          <a:xfrm>
            <a:off x="304920" y="5087880"/>
            <a:ext cx="2286000" cy="1085760"/>
            <a:chOff x="304920" y="5087880"/>
            <a:chExt cx="2286000" cy="1085760"/>
          </a:xfrm>
        </p:grpSpPr>
        <p:grpSp>
          <p:nvGrpSpPr>
            <p:cNvPr id="102" name="Group 10"/>
            <p:cNvGrpSpPr/>
            <p:nvPr/>
          </p:nvGrpSpPr>
          <p:grpSpPr>
            <a:xfrm>
              <a:off x="304920" y="5791320"/>
              <a:ext cx="2286000" cy="382320"/>
              <a:chOff x="304920" y="5791320"/>
              <a:chExt cx="2286000" cy="382320"/>
            </a:xfrm>
          </p:grpSpPr>
          <p:sp>
            <p:nvSpPr>
              <p:cNvPr id="103" name="Oval 11"/>
              <p:cNvSpPr/>
              <p:nvPr/>
            </p:nvSpPr>
            <p:spPr>
              <a:xfrm>
                <a:off x="304920" y="5791320"/>
                <a:ext cx="380880" cy="3808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2"/>
              <p:cNvSpPr/>
              <p:nvPr/>
            </p:nvSpPr>
            <p:spPr>
              <a:xfrm>
                <a:off x="685800" y="5881680"/>
                <a:ext cx="19051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endrites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Line 8"/>
            <p:cNvSpPr/>
            <p:nvPr/>
          </p:nvSpPr>
          <p:spPr>
            <a:xfrm flipH="1">
              <a:off x="685800" y="5087880"/>
              <a:ext cx="9144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9"/>
            <p:cNvSpPr/>
            <p:nvPr/>
          </p:nvSpPr>
          <p:spPr>
            <a:xfrm flipV="1">
              <a:off x="685800" y="5621400"/>
              <a:ext cx="1447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028"/>
          <p:cNvSpPr/>
          <p:nvPr/>
        </p:nvSpPr>
        <p:spPr>
          <a:xfrm>
            <a:off x="547560" y="2759040"/>
            <a:ext cx="85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xon carries impuls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31" descr="bhspe-092902-001"/>
          <p:cNvPicPr/>
          <p:nvPr/>
        </p:nvPicPr>
        <p:blipFill>
          <a:blip r:embed="rId1"/>
          <a:stretch/>
        </p:blipFill>
        <p:spPr>
          <a:xfrm>
            <a:off x="1298520" y="3527280"/>
            <a:ext cx="7083360" cy="27972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1052"/>
          <p:cNvGrpSpPr/>
          <p:nvPr/>
        </p:nvGrpSpPr>
        <p:grpSpPr>
          <a:xfrm>
            <a:off x="4038480" y="4100400"/>
            <a:ext cx="3733920" cy="685440"/>
            <a:chOff x="4038480" y="4100400"/>
            <a:chExt cx="3733920" cy="685440"/>
          </a:xfrm>
        </p:grpSpPr>
        <p:grpSp>
          <p:nvGrpSpPr>
            <p:cNvPr id="110" name="Group 1033"/>
            <p:cNvGrpSpPr/>
            <p:nvPr/>
          </p:nvGrpSpPr>
          <p:grpSpPr>
            <a:xfrm>
              <a:off x="5486400" y="4100400"/>
              <a:ext cx="2286000" cy="382680"/>
              <a:chOff x="5486400" y="4100400"/>
              <a:chExt cx="2286000" cy="382680"/>
            </a:xfrm>
          </p:grpSpPr>
          <p:sp>
            <p:nvSpPr>
              <p:cNvPr id="111" name="Oval 1034"/>
              <p:cNvSpPr/>
              <p:nvPr/>
            </p:nvSpPr>
            <p:spPr>
              <a:xfrm>
                <a:off x="5486400" y="4100400"/>
                <a:ext cx="380880" cy="3812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1035"/>
              <p:cNvSpPr/>
              <p:nvPr/>
            </p:nvSpPr>
            <p:spPr>
              <a:xfrm>
                <a:off x="5867280" y="4191120"/>
                <a:ext cx="19051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xon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1042"/>
            <p:cNvGrpSpPr/>
            <p:nvPr/>
          </p:nvGrpSpPr>
          <p:grpSpPr>
            <a:xfrm>
              <a:off x="4038480" y="4571640"/>
              <a:ext cx="3200040" cy="214200"/>
              <a:chOff x="4038480" y="4571640"/>
              <a:chExt cx="3200040" cy="214200"/>
            </a:xfrm>
          </p:grpSpPr>
          <p:sp>
            <p:nvSpPr>
              <p:cNvPr id="114" name="Line 1037"/>
              <p:cNvSpPr/>
              <p:nvPr/>
            </p:nvSpPr>
            <p:spPr>
              <a:xfrm flipV="1">
                <a:off x="4038480" y="4571640"/>
                <a:ext cx="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038"/>
              <p:cNvSpPr/>
              <p:nvPr/>
            </p:nvSpPr>
            <p:spPr>
              <a:xfrm>
                <a:off x="4038480" y="4572000"/>
                <a:ext cx="320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041"/>
              <p:cNvSpPr/>
              <p:nvPr/>
            </p:nvSpPr>
            <p:spPr>
              <a:xfrm>
                <a:off x="7238520" y="4572000"/>
                <a:ext cx="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Rectangle 1047"/>
          <p:cNvSpPr/>
          <p:nvPr/>
        </p:nvSpPr>
        <p:spPr>
          <a:xfrm>
            <a:off x="547560" y="2287440"/>
            <a:ext cx="85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ndrites receive impul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200" y="816120"/>
            <a:ext cx="89028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Neurons are highly specialized cells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7200" y="1374480"/>
            <a:ext cx="8582040" cy="89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neuron has three 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ll body has nucleus and organ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rons have other structures to transmit sig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533520" y="1474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chwann cel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6" descr="_x0008_876a.gif                                                       0006B018&#9;Macintosh                      BEB7E0B0:"/>
          <p:cNvPicPr/>
          <p:nvPr/>
        </p:nvPicPr>
        <p:blipFill>
          <a:blip r:embed="rId1"/>
          <a:stretch/>
        </p:blipFill>
        <p:spPr>
          <a:xfrm>
            <a:off x="2011320" y="2719440"/>
            <a:ext cx="492300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8" descr="bhspe-092902-004_half"/>
          <p:cNvPicPr/>
          <p:nvPr/>
        </p:nvPicPr>
        <p:blipFill>
          <a:blip r:embed="rId1"/>
          <a:stretch/>
        </p:blipFill>
        <p:spPr>
          <a:xfrm rot="5391600">
            <a:off x="2298600" y="1947600"/>
            <a:ext cx="5016600" cy="4168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533520" y="20368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naps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20"/>
          <p:cNvGrpSpPr/>
          <p:nvPr/>
        </p:nvGrpSpPr>
        <p:grpSpPr>
          <a:xfrm>
            <a:off x="3962520" y="3048120"/>
            <a:ext cx="1549440" cy="825480"/>
            <a:chOff x="3962520" y="3048120"/>
            <a:chExt cx="1549440" cy="825480"/>
          </a:xfrm>
        </p:grpSpPr>
        <p:sp>
          <p:nvSpPr>
            <p:cNvPr id="126" name="Line 11"/>
            <p:cNvSpPr/>
            <p:nvPr/>
          </p:nvSpPr>
          <p:spPr>
            <a:xfrm>
              <a:off x="4648320" y="3276720"/>
              <a:ext cx="863640" cy="5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3"/>
            <p:cNvSpPr/>
            <p:nvPr/>
          </p:nvSpPr>
          <p:spPr>
            <a:xfrm>
              <a:off x="3962520" y="3048120"/>
              <a:ext cx="990360" cy="2286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ynapse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rons have other structures to transmit sig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533520" y="1474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chwann cel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533520" y="2590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rmina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533520" y="20368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naps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rons have other structures to transmit sig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533520" y="1474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chwann cel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762120" y="3236760"/>
            <a:ext cx="8229600" cy="2797200"/>
            <a:chOff x="762120" y="3236760"/>
            <a:chExt cx="8229600" cy="2797200"/>
          </a:xfrm>
        </p:grpSpPr>
        <p:grpSp>
          <p:nvGrpSpPr>
            <p:cNvPr id="135" name="Group 12"/>
            <p:cNvGrpSpPr/>
            <p:nvPr/>
          </p:nvGrpSpPr>
          <p:grpSpPr>
            <a:xfrm>
              <a:off x="762120" y="3236760"/>
              <a:ext cx="8229600" cy="2797200"/>
              <a:chOff x="762120" y="3236760"/>
              <a:chExt cx="8229600" cy="2797200"/>
            </a:xfrm>
          </p:grpSpPr>
          <p:pic>
            <p:nvPicPr>
              <p:cNvPr id="136" name="Picture 4" descr="bhspe-092902-001"/>
              <p:cNvPicPr/>
              <p:nvPr/>
            </p:nvPicPr>
            <p:blipFill>
              <a:blip r:embed="rId1"/>
              <a:stretch/>
            </p:blipFill>
            <p:spPr>
              <a:xfrm>
                <a:off x="762120" y="3236760"/>
                <a:ext cx="7083360" cy="279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Text Box 7"/>
              <p:cNvSpPr/>
              <p:nvPr/>
            </p:nvSpPr>
            <p:spPr>
              <a:xfrm>
                <a:off x="8001000" y="3276720"/>
                <a:ext cx="9907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xon terminal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Line 5"/>
            <p:cNvSpPr/>
            <p:nvPr/>
          </p:nvSpPr>
          <p:spPr>
            <a:xfrm>
              <a:off x="7543800" y="3886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6"/>
            <p:cNvSpPr/>
            <p:nvPr/>
          </p:nvSpPr>
          <p:spPr>
            <a:xfrm flipV="1">
              <a:off x="7620120" y="3885840"/>
              <a:ext cx="533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4160" y="816120"/>
            <a:ext cx="888984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Neurons receive and transmit signals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1600" y="1371600"/>
            <a:ext cx="8582040" cy="13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ting potential means no signal is being transmitte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re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utside of 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re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ide of 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5" descr="_x0008_878d.gif                                                       0006B018&#9;Macintosh                      BEB7E0B0:"/>
          <p:cNvPicPr/>
          <p:nvPr/>
        </p:nvPicPr>
        <p:blipFill>
          <a:blip r:embed="rId1"/>
          <a:stretch/>
        </p:blipFill>
        <p:spPr>
          <a:xfrm>
            <a:off x="990720" y="3479760"/>
            <a:ext cx="3881160" cy="33717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action potential is a moving electrical impuls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549360" y="1476360"/>
            <a:ext cx="50893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generated by a stimulu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nters, and cell becomes positively charg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leaves, and area of positive charge mov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_x0008_878a.gif                                                       0006B018&#9;Macintosh                      BEB7E0B0:"/>
          <p:cNvPicPr/>
          <p:nvPr/>
        </p:nvPicPr>
        <p:blipFill>
          <a:blip r:embed="rId2"/>
          <a:stretch/>
        </p:blipFill>
        <p:spPr>
          <a:xfrm>
            <a:off x="6058080" y="1511280"/>
            <a:ext cx="2514600" cy="1552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_x0008_878b.gif                                                       0006B018&#9;Macintosh                      BEB7E0B0:"/>
          <p:cNvPicPr/>
          <p:nvPr/>
        </p:nvPicPr>
        <p:blipFill>
          <a:blip r:embed="rId3"/>
          <a:stretch/>
        </p:blipFill>
        <p:spPr>
          <a:xfrm>
            <a:off x="5283360" y="3200400"/>
            <a:ext cx="3409920" cy="350532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18"/>
          <p:cNvGrpSpPr/>
          <p:nvPr/>
        </p:nvGrpSpPr>
        <p:grpSpPr>
          <a:xfrm>
            <a:off x="914400" y="4114800"/>
            <a:ext cx="2438280" cy="1066680"/>
            <a:chOff x="914400" y="4114800"/>
            <a:chExt cx="2438280" cy="1066680"/>
          </a:xfrm>
        </p:grpSpPr>
        <p:sp>
          <p:nvSpPr>
            <p:cNvPr id="148" name="Rectangle 8"/>
            <p:cNvSpPr/>
            <p:nvPr/>
          </p:nvSpPr>
          <p:spPr>
            <a:xfrm>
              <a:off x="914400" y="4114800"/>
              <a:ext cx="1143000" cy="2286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rea of detail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17"/>
            <p:cNvGrpSpPr/>
            <p:nvPr/>
          </p:nvGrpSpPr>
          <p:grpSpPr>
            <a:xfrm>
              <a:off x="1828800" y="4343040"/>
              <a:ext cx="1523880" cy="838440"/>
              <a:chOff x="1828800" y="4343040"/>
              <a:chExt cx="1523880" cy="838440"/>
            </a:xfrm>
          </p:grpSpPr>
          <p:sp>
            <p:nvSpPr>
              <p:cNvPr id="150" name="Line 7"/>
              <p:cNvSpPr/>
              <p:nvPr/>
            </p:nvSpPr>
            <p:spPr>
              <a:xfrm flipH="1" flipV="1">
                <a:off x="1828800" y="4343040"/>
                <a:ext cx="129528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6"/>
              <p:cNvSpPr/>
              <p:nvPr/>
            </p:nvSpPr>
            <p:spPr>
              <a:xfrm>
                <a:off x="2895480" y="5029200"/>
                <a:ext cx="45720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10Z</dcterms:created>
  <dc:creator>McDougal Littell</dc:creator>
  <dc:description/>
  <dc:language>en-US</dc:language>
  <cp:lastModifiedBy>Justin Houck</cp:lastModifiedBy>
  <dcterms:modified xsi:type="dcterms:W3CDTF">2010-09-03T15:54:47Z</dcterms:modified>
  <cp:revision>169</cp:revision>
  <dc:subject/>
  <dc:title>PowerPoint Presentation</dc:title>
</cp:coreProperties>
</file>