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3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en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885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nses detect the internal and external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bhspe-0929co-001"/>
          <p:cNvPicPr/>
          <p:nvPr/>
        </p:nvPicPr>
        <p:blipFill>
          <a:blip r:embed="rId1"/>
          <a:stretch/>
        </p:blipFill>
        <p:spPr>
          <a:xfrm>
            <a:off x="1752480" y="2209680"/>
            <a:ext cx="586764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80316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senses help to maintain homeostasi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66920"/>
            <a:ext cx="5029200" cy="32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es gather stimuli, and send it to the nervous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rvous system responds to stimu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pils shrink when too much light enters the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ose bumps when cold air touches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5638680" y="1481040"/>
            <a:ext cx="3048120" cy="4233960"/>
            <a:chOff x="5638680" y="1481040"/>
            <a:chExt cx="3048120" cy="4233960"/>
          </a:xfrm>
        </p:grpSpPr>
        <p:pic>
          <p:nvPicPr>
            <p:cNvPr id="85" name="Picture 4" descr="C:\Documents and Settings\alpana.dubey\My Documents\Alpana\7TH_NOV\ch_29\ina's\bhspe-092903-007.jpg"/>
            <p:cNvPicPr/>
            <p:nvPr/>
          </p:nvPicPr>
          <p:blipFill>
            <a:blip r:embed="rId2"/>
            <a:stretch/>
          </p:blipFill>
          <p:spPr>
            <a:xfrm>
              <a:off x="5638680" y="3676680"/>
              <a:ext cx="3048120" cy="20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" descr="C:\Documents and Settings\alpana.dubey\My Documents\Alpana\7TH_NOV\ch_29\ina's\bhspe-092903-008.jpg"/>
            <p:cNvPicPr/>
            <p:nvPr/>
          </p:nvPicPr>
          <p:blipFill>
            <a:blip r:embed="rId3"/>
            <a:stretch/>
          </p:blipFill>
          <p:spPr>
            <a:xfrm>
              <a:off x="5638680" y="1481040"/>
              <a:ext cx="3029040" cy="20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2640" y="82404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senses detect physical and chemical stimuli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7560" y="1405080"/>
            <a:ext cx="478656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ye contributes to vi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receptors sense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o photoreceptors work together: rod cells and cone ce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3" descr="_x0007_881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3433680" y="1433520"/>
            <a:ext cx="4948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ar contributes to he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33520" y="149220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oreceptors called hair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d in response to vib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_x0018_0882_bhspe-092903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1066680" y="2666880"/>
            <a:ext cx="67820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ste and smell use chemorecep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33520" y="565956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ste uses tongue, and smell uses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oreceptors detect chemicals dissolved in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Documents and Settings\alpana.dubey\My Documents\Alpana\7TH_NOV\ch_29\ina's\bhspe-010103-006.jpg"/>
          <p:cNvPicPr/>
          <p:nvPr/>
        </p:nvPicPr>
        <p:blipFill>
          <a:blip r:embed="rId1"/>
          <a:stretch/>
        </p:blipFill>
        <p:spPr>
          <a:xfrm>
            <a:off x="2514600" y="1447920"/>
            <a:ext cx="4021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kin senses to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1523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chanoreceptors detect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alpana.dubey\My Documents\Alpana\7TH_NOV\ch_29\ina's\bhspe-092903-005.jpg"/>
          <p:cNvPicPr/>
          <p:nvPr/>
        </p:nvPicPr>
        <p:blipFill>
          <a:blip r:embed="rId1"/>
          <a:stretch/>
        </p:blipFill>
        <p:spPr>
          <a:xfrm>
            <a:off x="2133720" y="2971800"/>
            <a:ext cx="3362040" cy="3657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3"/>
          <p:cNvGrpSpPr/>
          <p:nvPr/>
        </p:nvGrpSpPr>
        <p:grpSpPr>
          <a:xfrm>
            <a:off x="5016600" y="3962520"/>
            <a:ext cx="1829880" cy="307080"/>
            <a:chOff x="5016600" y="3962520"/>
            <a:chExt cx="1829880" cy="307080"/>
          </a:xfrm>
        </p:grpSpPr>
        <p:sp>
          <p:nvSpPr>
            <p:cNvPr id="100" name="Text Box 8"/>
            <p:cNvSpPr/>
            <p:nvPr/>
          </p:nvSpPr>
          <p:spPr>
            <a:xfrm>
              <a:off x="5623200" y="3962520"/>
              <a:ext cx="122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in recep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01660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7"/>
          <p:cNvGrpSpPr/>
          <p:nvPr/>
        </p:nvGrpSpPr>
        <p:grpSpPr>
          <a:xfrm>
            <a:off x="3390840" y="4495680"/>
            <a:ext cx="4325400" cy="1374120"/>
            <a:chOff x="3390840" y="4495680"/>
            <a:chExt cx="4325400" cy="1374120"/>
          </a:xfrm>
        </p:grpSpPr>
        <p:grpSp>
          <p:nvGrpSpPr>
            <p:cNvPr id="103" name="Group 14"/>
            <p:cNvGrpSpPr/>
            <p:nvPr/>
          </p:nvGrpSpPr>
          <p:grpSpPr>
            <a:xfrm>
              <a:off x="4699080" y="4495680"/>
              <a:ext cx="2879640" cy="307080"/>
              <a:chOff x="4699080" y="4495680"/>
              <a:chExt cx="2879640" cy="307080"/>
            </a:xfrm>
          </p:grpSpPr>
          <p:sp>
            <p:nvSpPr>
              <p:cNvPr id="104" name="Text Box 7"/>
              <p:cNvSpPr/>
              <p:nvPr/>
            </p:nvSpPr>
            <p:spPr>
              <a:xfrm>
                <a:off x="5619600" y="4495680"/>
                <a:ext cx="195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ight pressure recep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4699080" y="46483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5"/>
            <p:cNvGrpSpPr/>
            <p:nvPr/>
          </p:nvGrpSpPr>
          <p:grpSpPr>
            <a:xfrm>
              <a:off x="3936960" y="5029200"/>
              <a:ext cx="2712960" cy="307080"/>
              <a:chOff x="3936960" y="5029200"/>
              <a:chExt cx="2712960" cy="307080"/>
            </a:xfrm>
          </p:grpSpPr>
          <p:sp>
            <p:nvSpPr>
              <p:cNvPr id="107" name="Text Box 6"/>
              <p:cNvSpPr/>
              <p:nvPr/>
            </p:nvSpPr>
            <p:spPr>
              <a:xfrm>
                <a:off x="5625000" y="5029200"/>
                <a:ext cx="102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air folli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3936960" y="518148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6"/>
            <p:cNvGrpSpPr/>
            <p:nvPr/>
          </p:nvGrpSpPr>
          <p:grpSpPr>
            <a:xfrm>
              <a:off x="3390840" y="5562720"/>
              <a:ext cx="4325400" cy="307080"/>
              <a:chOff x="3390840" y="5562720"/>
              <a:chExt cx="4325400" cy="30708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5607720" y="5562720"/>
                <a:ext cx="210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eavy pressure recepto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2"/>
              <p:cNvSpPr/>
              <p:nvPr/>
            </p:nvSpPr>
            <p:spPr>
              <a:xfrm>
                <a:off x="3390840" y="5562720"/>
                <a:ext cx="22860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Rectangle 18"/>
          <p:cNvSpPr/>
          <p:nvPr/>
        </p:nvSpPr>
        <p:spPr>
          <a:xfrm>
            <a:off x="533520" y="1955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in receptors detect damaged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533520" y="2400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moreceptors detect temper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5:36Z</dcterms:modified>
  <cp:revision>122</cp:revision>
  <dc:subject/>
  <dc:title>PowerPoint Presentation</dc:title>
</cp:coreProperties>
</file>