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4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Central and Peripheral Nervous System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80028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entral nervous system interprets information, and the peripheral nervous system gathers and transmits inform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bhspe-0929co-001"/>
          <p:cNvPicPr/>
          <p:nvPr/>
        </p:nvPicPr>
        <p:blipFill>
          <a:blip r:embed="rId1"/>
          <a:stretch/>
        </p:blipFill>
        <p:spPr>
          <a:xfrm>
            <a:off x="1905120" y="2629080"/>
            <a:ext cx="5343480" cy="39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2640" y="79380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nervous system’s two parts work together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3618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NS includes the brain, brain stem, and spinal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PNS includes four systems of ner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C:\Documents and Settings\alpana.dubey\My Documents\Alpana\7TH_NOV\ch_29\ina's\bhspe-092904-001.gif"/>
          <p:cNvPicPr/>
          <p:nvPr/>
        </p:nvPicPr>
        <p:blipFill>
          <a:blip r:embed="rId2"/>
          <a:stretch/>
        </p:blipFill>
        <p:spPr>
          <a:xfrm>
            <a:off x="3457440" y="2514600"/>
            <a:ext cx="195264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CNS and PNS pass signals between one an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533520" y="1359000"/>
            <a:ext cx="858204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ory receptor generates impu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NS passes impulse to C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NS interprets impu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NS passes impulse to P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NS stimulates a respon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1" descr="_x0018_0888_bhspe-092904.p1.jpg                                       00066E95&#9;Macintosh                      BEB7E0B0:"/>
          <p:cNvPicPr/>
          <p:nvPr/>
        </p:nvPicPr>
        <p:blipFill>
          <a:blip r:embed="rId1"/>
          <a:stretch/>
        </p:blipFill>
        <p:spPr>
          <a:xfrm>
            <a:off x="4648320" y="1143000"/>
            <a:ext cx="4190760" cy="2505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5" descr="_x0008_888a.gif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5208480" y="3895560"/>
            <a:ext cx="2668680" cy="29624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2640" y="80028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CNS processes information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385640"/>
            <a:ext cx="4190760" cy="243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ain has three pa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rebrum controls thought, movement, emo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rebellum allows for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8"/>
          <p:cNvGrpSpPr/>
          <p:nvPr/>
        </p:nvGrpSpPr>
        <p:grpSpPr>
          <a:xfrm>
            <a:off x="4803840" y="4876920"/>
            <a:ext cx="1980720" cy="978840"/>
            <a:chOff x="4803840" y="4876920"/>
            <a:chExt cx="1980720" cy="978840"/>
          </a:xfrm>
        </p:grpSpPr>
        <p:sp>
          <p:nvSpPr>
            <p:cNvPr id="92" name="Line 9"/>
            <p:cNvSpPr/>
            <p:nvPr/>
          </p:nvSpPr>
          <p:spPr>
            <a:xfrm flipH="1" flipV="1">
              <a:off x="5666760" y="5041800"/>
              <a:ext cx="106668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0"/>
            <p:cNvSpPr/>
            <p:nvPr/>
          </p:nvSpPr>
          <p:spPr>
            <a:xfrm>
              <a:off x="4803840" y="4876920"/>
              <a:ext cx="9140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idbra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12"/>
            <p:cNvSpPr/>
            <p:nvPr/>
          </p:nvSpPr>
          <p:spPr>
            <a:xfrm flipH="1" flipV="1">
              <a:off x="5667120" y="5270400"/>
              <a:ext cx="1117440" cy="10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3"/>
            <p:cNvSpPr/>
            <p:nvPr/>
          </p:nvSpPr>
          <p:spPr>
            <a:xfrm>
              <a:off x="5146560" y="5105160"/>
              <a:ext cx="685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4930560" y="5365800"/>
              <a:ext cx="106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dulla oblonga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H="1">
              <a:off x="5666760" y="5524560"/>
              <a:ext cx="990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ectangle 23"/>
          <p:cNvSpPr/>
          <p:nvPr/>
        </p:nvSpPr>
        <p:spPr>
          <a:xfrm>
            <a:off x="523800" y="3797280"/>
            <a:ext cx="35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rain stem controls basic life fun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29"/>
          <p:cNvGrpSpPr/>
          <p:nvPr/>
        </p:nvGrpSpPr>
        <p:grpSpPr>
          <a:xfrm>
            <a:off x="4191840" y="4813200"/>
            <a:ext cx="713160" cy="1143000"/>
            <a:chOff x="4191840" y="4813200"/>
            <a:chExt cx="713160" cy="1143000"/>
          </a:xfrm>
        </p:grpSpPr>
        <p:sp>
          <p:nvSpPr>
            <p:cNvPr id="100" name="AutoShape 26"/>
            <p:cNvSpPr/>
            <p:nvPr/>
          </p:nvSpPr>
          <p:spPr>
            <a:xfrm>
              <a:off x="4829040" y="4813200"/>
              <a:ext cx="75960" cy="11430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9520 h 1143000"/>
                <a:gd name="textAreaBottom" fmla="*/ 1113480 h 114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27"/>
            <p:cNvSpPr/>
            <p:nvPr/>
          </p:nvSpPr>
          <p:spPr>
            <a:xfrm>
              <a:off x="4191840" y="5103720"/>
              <a:ext cx="636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rain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te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brain stem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533520" y="1359000"/>
            <a:ext cx="480060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idbrain controls some refle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ns regulates brea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edulla oblongata controls heart function, swallowing, coug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5" descr="C:\Documents and Settings\alpana.dubey\My Documents\Alpana\7TH_NOV\ch_29\ina's\bhspe-092904-006.gif"/>
          <p:cNvPicPr/>
          <p:nvPr/>
        </p:nvPicPr>
        <p:blipFill>
          <a:blip r:embed="rId1"/>
          <a:stretch/>
        </p:blipFill>
        <p:spPr>
          <a:xfrm>
            <a:off x="5654520" y="838080"/>
            <a:ext cx="2640240" cy="5791320"/>
          </a:xfrm>
          <a:prstGeom prst="rect">
            <a:avLst/>
          </a:prstGeom>
          <a:ln w="0">
            <a:noFill/>
          </a:ln>
        </p:spPr>
      </p:pic>
      <p:grpSp>
        <p:nvGrpSpPr>
          <p:cNvPr id="105" name="Group 28"/>
          <p:cNvGrpSpPr/>
          <p:nvPr/>
        </p:nvGrpSpPr>
        <p:grpSpPr>
          <a:xfrm>
            <a:off x="5410080" y="1905120"/>
            <a:ext cx="1752480" cy="307800"/>
            <a:chOff x="5410080" y="1905120"/>
            <a:chExt cx="1752480" cy="307800"/>
          </a:xfrm>
        </p:grpSpPr>
        <p:sp>
          <p:nvSpPr>
            <p:cNvPr id="106" name="Line 9"/>
            <p:cNvSpPr/>
            <p:nvPr/>
          </p:nvSpPr>
          <p:spPr>
            <a:xfrm flipH="1">
              <a:off x="6232320" y="1905120"/>
              <a:ext cx="93024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0"/>
            <p:cNvSpPr/>
            <p:nvPr/>
          </p:nvSpPr>
          <p:spPr>
            <a:xfrm>
              <a:off x="5410080" y="192096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idbra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29"/>
          <p:cNvGrpSpPr/>
          <p:nvPr/>
        </p:nvGrpSpPr>
        <p:grpSpPr>
          <a:xfrm>
            <a:off x="5538960" y="2133720"/>
            <a:ext cx="1581120" cy="823320"/>
            <a:chOff x="5538960" y="2133720"/>
            <a:chExt cx="1581120" cy="823320"/>
          </a:xfrm>
        </p:grpSpPr>
        <p:sp>
          <p:nvSpPr>
            <p:cNvPr id="109" name="Text Box 14"/>
            <p:cNvSpPr/>
            <p:nvPr/>
          </p:nvSpPr>
          <p:spPr>
            <a:xfrm>
              <a:off x="5538960" y="2467080"/>
              <a:ext cx="990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edulla oblongata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15"/>
            <p:cNvSpPr/>
            <p:nvPr/>
          </p:nvSpPr>
          <p:spPr>
            <a:xfrm flipH="1">
              <a:off x="6308640" y="2133720"/>
              <a:ext cx="8114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Group 30"/>
          <p:cNvGrpSpPr/>
          <p:nvPr/>
        </p:nvGrpSpPr>
        <p:grpSpPr>
          <a:xfrm>
            <a:off x="7238880" y="1981080"/>
            <a:ext cx="1119240" cy="495360"/>
            <a:chOff x="7238880" y="1981080"/>
            <a:chExt cx="1119240" cy="495360"/>
          </a:xfrm>
        </p:grpSpPr>
        <p:sp>
          <p:nvSpPr>
            <p:cNvPr id="112" name="Text Box 13"/>
            <p:cNvSpPr/>
            <p:nvPr/>
          </p:nvSpPr>
          <p:spPr>
            <a:xfrm>
              <a:off x="7772040" y="2184480"/>
              <a:ext cx="586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p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26"/>
            <p:cNvSpPr/>
            <p:nvPr/>
          </p:nvSpPr>
          <p:spPr>
            <a:xfrm>
              <a:off x="7238880" y="1981080"/>
              <a:ext cx="608040" cy="33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pinal cord controls reflex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533520" y="1359000"/>
            <a:ext cx="858204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ory neuron sends impulse to spinal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pinal cord directs impulse to motor neur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oes not involve the b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C:\Documents and Settings\alpana.dubey\My Documents\Alpana\7TH_NOV\ch_29\bhspe-092904-012.jpg"/>
          <p:cNvPicPr/>
          <p:nvPr/>
        </p:nvPicPr>
        <p:blipFill>
          <a:blip r:embed="rId1"/>
          <a:stretch/>
        </p:blipFill>
        <p:spPr>
          <a:xfrm>
            <a:off x="3029040" y="2819520"/>
            <a:ext cx="3200400" cy="380988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0"/>
          <p:cNvGrpSpPr/>
          <p:nvPr/>
        </p:nvGrpSpPr>
        <p:grpSpPr>
          <a:xfrm>
            <a:off x="1981080" y="2833560"/>
            <a:ext cx="1923840" cy="566640"/>
            <a:chOff x="1981080" y="2833560"/>
            <a:chExt cx="1923840" cy="566640"/>
          </a:xfrm>
        </p:grpSpPr>
        <p:sp>
          <p:nvSpPr>
            <p:cNvPr id="118" name="Text Box 8"/>
            <p:cNvSpPr/>
            <p:nvPr/>
          </p:nvSpPr>
          <p:spPr>
            <a:xfrm>
              <a:off x="1981080" y="2833560"/>
              <a:ext cx="12952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interneur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9"/>
            <p:cNvSpPr/>
            <p:nvPr/>
          </p:nvSpPr>
          <p:spPr>
            <a:xfrm>
              <a:off x="2990520" y="3019320"/>
              <a:ext cx="9144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19"/>
          <p:cNvGrpSpPr/>
          <p:nvPr/>
        </p:nvGrpSpPr>
        <p:grpSpPr>
          <a:xfrm>
            <a:off x="4114800" y="3949560"/>
            <a:ext cx="1600200" cy="595440"/>
            <a:chOff x="4114800" y="3949560"/>
            <a:chExt cx="1600200" cy="595440"/>
          </a:xfrm>
        </p:grpSpPr>
        <p:sp>
          <p:nvSpPr>
            <p:cNvPr id="121" name="Line 12"/>
            <p:cNvSpPr/>
            <p:nvPr/>
          </p:nvSpPr>
          <p:spPr>
            <a:xfrm>
              <a:off x="5334120" y="408780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1"/>
            <p:cNvSpPr/>
            <p:nvPr/>
          </p:nvSpPr>
          <p:spPr>
            <a:xfrm>
              <a:off x="4114800" y="3949560"/>
              <a:ext cx="15242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motor neuron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13"/>
            <p:cNvSpPr/>
            <p:nvPr/>
          </p:nvSpPr>
          <p:spPr>
            <a:xfrm>
              <a:off x="5181840" y="4087800"/>
              <a:ext cx="1522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8"/>
          <p:cNvGrpSpPr/>
          <p:nvPr/>
        </p:nvGrpSpPr>
        <p:grpSpPr>
          <a:xfrm>
            <a:off x="3200400" y="4419720"/>
            <a:ext cx="1523880" cy="380880"/>
            <a:chOff x="3200400" y="4419720"/>
            <a:chExt cx="1523880" cy="380880"/>
          </a:xfrm>
        </p:grpSpPr>
        <p:sp>
          <p:nvSpPr>
            <p:cNvPr id="125" name="Text Box 14"/>
            <p:cNvSpPr/>
            <p:nvPr/>
          </p:nvSpPr>
          <p:spPr>
            <a:xfrm>
              <a:off x="3200400" y="4419720"/>
              <a:ext cx="15238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sensory neuro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15"/>
            <p:cNvSpPr/>
            <p:nvPr/>
          </p:nvSpPr>
          <p:spPr>
            <a:xfrm>
              <a:off x="4495680" y="4572000"/>
              <a:ext cx="1526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2640" y="80028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The PNS links the CNS to muscles and other organ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379520"/>
            <a:ext cx="8582040" cy="163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matic nervous system regulates voluntary mov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autonomic nervous system controls involuntary,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_x0019_0890_bhspe-092904.p1B.jpg                                      00066E95&#9;Macintosh                      BEB7E0B0:"/>
          <p:cNvPicPr/>
          <p:nvPr/>
        </p:nvPicPr>
        <p:blipFill>
          <a:blip r:embed="rId2"/>
          <a:stretch/>
        </p:blipFill>
        <p:spPr>
          <a:xfrm>
            <a:off x="4800600" y="2793960"/>
            <a:ext cx="3218040" cy="2387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533520" y="299736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mpathetic nervous system: “fight vs. fligh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38131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asympathetic nervous system: calms the body, conserves energ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_x0019_0890_bhspe-092904.p1C.jpg                                      00066E95&#9;Macintosh                      BEB7E0B0:"/>
          <p:cNvPicPr/>
          <p:nvPr/>
        </p:nvPicPr>
        <p:blipFill>
          <a:blip r:embed="rId3"/>
          <a:stretch/>
        </p:blipFill>
        <p:spPr>
          <a:xfrm>
            <a:off x="4572000" y="5168880"/>
            <a:ext cx="360036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6:22Z</dcterms:modified>
  <cp:revision>141</cp:revision>
  <dc:subject/>
  <dc:title>PowerPoint Presentation</dc:title>
</cp:coreProperties>
</file>