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6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.5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Function and Chem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33520" y="800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ientists study the functions and chemistry of the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bhspe-0929co-001"/>
          <p:cNvPicPr/>
          <p:nvPr/>
        </p:nvPicPr>
        <p:blipFill>
          <a:blip r:embed="rId1"/>
          <a:stretch/>
        </p:blipFill>
        <p:spPr>
          <a:xfrm>
            <a:off x="1905120" y="2629080"/>
            <a:ext cx="5343480" cy="39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Documents and Settings\alpana.dubey\My Documents\Alpana\8th_nov\defect_corrections\ch_29\bhspe-092904-005_edited.png"/>
          <p:cNvPicPr/>
          <p:nvPr/>
        </p:nvPicPr>
        <p:blipFill>
          <a:blip r:embed="rId1"/>
          <a:stretch/>
        </p:blipFill>
        <p:spPr>
          <a:xfrm>
            <a:off x="3529080" y="1981080"/>
            <a:ext cx="1996920" cy="4708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79524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w techniques improve our understanding of the brain</a:t>
            </a:r>
            <a:r>
              <a:rPr b="1" lang="en-US" sz="2400" spc="-1" strike="noStrike">
                <a:solidFill>
                  <a:srgbClr val="186496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359000"/>
            <a:ext cx="85820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day, scientists study the brain without surg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three common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533520" y="137160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T uses x-rays to view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533520" y="265428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T detects activity, where glucose is used, in the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33520" y="1832040"/>
            <a:ext cx="85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I uses magnetic fields and radio waves to view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_x0019_0891_bhspe-092905.p1A.jpg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820800" y="3225960"/>
            <a:ext cx="2198520" cy="311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_x0019_0891_bhspe-092905.p1B.jpg                                      00066E95&#9;Macintosh                      BEB7E0B0:"/>
          <p:cNvPicPr/>
          <p:nvPr/>
        </p:nvPicPr>
        <p:blipFill>
          <a:blip r:embed="rId2"/>
          <a:stretch/>
        </p:blipFill>
        <p:spPr>
          <a:xfrm>
            <a:off x="3424320" y="3276720"/>
            <a:ext cx="2138400" cy="3009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_x0019_0891_bhspe-092905.p1C.jpg                                      00066E95&#9;Macintosh                      BEB7E0B0:"/>
          <p:cNvPicPr/>
          <p:nvPr/>
        </p:nvPicPr>
        <p:blipFill>
          <a:blip r:embed="rId3"/>
          <a:stretch/>
        </p:blipFill>
        <p:spPr>
          <a:xfrm>
            <a:off x="5986440" y="3276720"/>
            <a:ext cx="21668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79704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Changes in brain chemistry can cause illness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370160"/>
            <a:ext cx="85820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neurotransmitters relate to different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33520" y="5486400"/>
            <a:ext cx="8582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stimulate im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prevent im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:\Documents and Settings\alpana.dubey\My Documents\Alpana\7TH_NOV\ch_29\bhspe-092905-006.jpg"/>
          <p:cNvPicPr/>
          <p:nvPr/>
        </p:nvPicPr>
        <p:blipFill>
          <a:blip r:embed="rId2"/>
          <a:stretch/>
        </p:blipFill>
        <p:spPr>
          <a:xfrm>
            <a:off x="2359080" y="2054160"/>
            <a:ext cx="4270320" cy="32036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3"/>
          <p:cNvGrpSpPr/>
          <p:nvPr/>
        </p:nvGrpSpPr>
        <p:grpSpPr>
          <a:xfrm>
            <a:off x="3886200" y="2057400"/>
            <a:ext cx="1143000" cy="685440"/>
            <a:chOff x="3886200" y="2057400"/>
            <a:chExt cx="1143000" cy="685440"/>
          </a:xfrm>
        </p:grpSpPr>
        <p:sp>
          <p:nvSpPr>
            <p:cNvPr id="97" name="Line 8"/>
            <p:cNvSpPr/>
            <p:nvPr/>
          </p:nvSpPr>
          <p:spPr>
            <a:xfrm flipV="1">
              <a:off x="3962520" y="24379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3962520" y="243828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 flipV="1">
              <a:off x="4648320" y="243792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 flipV="1">
              <a:off x="4267440" y="22856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3886200" y="2057400"/>
              <a:ext cx="1143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synap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16"/>
          <p:cNvSpPr/>
          <p:nvPr/>
        </p:nvSpPr>
        <p:spPr>
          <a:xfrm>
            <a:off x="5181480" y="268128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2"/>
          <p:cNvGrpSpPr/>
          <p:nvPr/>
        </p:nvGrpSpPr>
        <p:grpSpPr>
          <a:xfrm>
            <a:off x="3657600" y="4114800"/>
            <a:ext cx="1600200" cy="610920"/>
            <a:chOff x="3657600" y="4114800"/>
            <a:chExt cx="1600200" cy="610920"/>
          </a:xfrm>
        </p:grpSpPr>
        <p:sp>
          <p:nvSpPr>
            <p:cNvPr id="104" name="Text Box 18"/>
            <p:cNvSpPr/>
            <p:nvPr/>
          </p:nvSpPr>
          <p:spPr>
            <a:xfrm>
              <a:off x="3657600" y="4433760"/>
              <a:ext cx="160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neurotransmit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V="1">
              <a:off x="4191120" y="4114800"/>
              <a:ext cx="15228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1"/>
          <p:cNvGrpSpPr/>
          <p:nvPr/>
        </p:nvGrpSpPr>
        <p:grpSpPr>
          <a:xfrm>
            <a:off x="4876920" y="3733920"/>
            <a:ext cx="1371600" cy="444240"/>
            <a:chOff x="4876920" y="3733920"/>
            <a:chExt cx="1371600" cy="444240"/>
          </a:xfrm>
        </p:grpSpPr>
        <p:sp>
          <p:nvSpPr>
            <p:cNvPr id="107" name="Text Box 17"/>
            <p:cNvSpPr/>
            <p:nvPr/>
          </p:nvSpPr>
          <p:spPr>
            <a:xfrm>
              <a:off x="5105520" y="3886200"/>
              <a:ext cx="1143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recep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>
              <a:off x="4876920" y="3733920"/>
              <a:ext cx="5335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 levels of neurotransmitter can cause ill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33520" y="1359000"/>
            <a:ext cx="8582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izophr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:\Documents and Settings\alpana.dubey\My Documents\Alpana\7TH_NOV\ch_29\bhspe-092905-004.jpg"/>
          <p:cNvPicPr/>
          <p:nvPr/>
        </p:nvPicPr>
        <p:blipFill>
          <a:blip r:embed="rId1"/>
          <a:stretch/>
        </p:blipFill>
        <p:spPr>
          <a:xfrm>
            <a:off x="1905120" y="2590920"/>
            <a:ext cx="533376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2712960" y="3376440"/>
            <a:ext cx="83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143240" y="3371760"/>
            <a:ext cx="1371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chizophren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19840" y="338616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pres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2640" y="79056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Drugs alter brain chemistry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360080"/>
            <a:ext cx="5715000" cy="36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iction is the physiological need for a subst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lerance occurs when more drug is needed to produce an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gs might cause desensitization or sensit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ensitization: more neurotransmitter leads to fewer 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3520" y="49402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sitization: less neurotransmitter leads to more recep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6324480" y="804960"/>
            <a:ext cx="2060640" cy="3963960"/>
            <a:chOff x="6324480" y="804960"/>
            <a:chExt cx="2060640" cy="3963960"/>
          </a:xfrm>
        </p:grpSpPr>
        <p:pic>
          <p:nvPicPr>
            <p:cNvPr id="119" name="Picture 5" descr="_x0008_893a.jpg                                                       0006B018&#9;Macintosh                      BEB7E0B0:"/>
            <p:cNvPicPr/>
            <p:nvPr/>
          </p:nvPicPr>
          <p:blipFill>
            <a:blip r:embed="rId2"/>
            <a:stretch/>
          </p:blipFill>
          <p:spPr>
            <a:xfrm>
              <a:off x="6324480" y="804960"/>
              <a:ext cx="2057400" cy="19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6" descr="_x0008_893b.jpg                                                       0006B018&#9;Macintosh                      BEB7E0B0:"/>
            <p:cNvPicPr/>
            <p:nvPr/>
          </p:nvPicPr>
          <p:blipFill>
            <a:blip r:embed="rId3"/>
            <a:stretch/>
          </p:blipFill>
          <p:spPr>
            <a:xfrm>
              <a:off x="6324480" y="2811600"/>
              <a:ext cx="2060640" cy="19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7" descr="_x0008_893c.jpg                                                       0006B018&#9;Macintosh                      BEB7E0B0:"/>
          <p:cNvPicPr/>
          <p:nvPr/>
        </p:nvPicPr>
        <p:blipFill>
          <a:blip r:embed="rId4"/>
          <a:stretch/>
        </p:blipFill>
        <p:spPr>
          <a:xfrm>
            <a:off x="6324480" y="4830840"/>
            <a:ext cx="2057400" cy="1950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3657600" y="614664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mount of neurotransmitter becomes abnormal, the adjacent neuron ada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85820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nts cause more action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33520" y="1346040"/>
            <a:ext cx="8582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y increase neurotransmitter in syn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y decrease removal of neurotransmitter in synap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Documents and Settings\alpana.dubey\My Documents\Alpana\7TH_NOV\ch_29\New Folder\bhspe-092905-009.jpg"/>
          <p:cNvPicPr/>
          <p:nvPr/>
        </p:nvPicPr>
        <p:blipFill>
          <a:blip r:embed="rId1"/>
          <a:stretch/>
        </p:blipFill>
        <p:spPr>
          <a:xfrm>
            <a:off x="1905120" y="2514600"/>
            <a:ext cx="5083200" cy="38131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31"/>
          <p:cNvGrpSpPr/>
          <p:nvPr/>
        </p:nvGrpSpPr>
        <p:grpSpPr>
          <a:xfrm>
            <a:off x="4702320" y="2592360"/>
            <a:ext cx="1523880" cy="457200"/>
            <a:chOff x="4702320" y="2592360"/>
            <a:chExt cx="1523880" cy="457200"/>
          </a:xfrm>
        </p:grpSpPr>
        <p:sp>
          <p:nvSpPr>
            <p:cNvPr id="127" name="Rectangle 18"/>
            <p:cNvSpPr/>
            <p:nvPr/>
          </p:nvSpPr>
          <p:spPr>
            <a:xfrm>
              <a:off x="5159520" y="2592360"/>
              <a:ext cx="1066680" cy="304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cocai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"/>
            <p:cNvSpPr/>
            <p:nvPr/>
          </p:nvSpPr>
          <p:spPr>
            <a:xfrm flipH="1">
              <a:off x="4702320" y="282096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4321080" y="3201840"/>
            <a:ext cx="1752840" cy="304920"/>
            <a:chOff x="4321080" y="3201840"/>
            <a:chExt cx="1752840" cy="304920"/>
          </a:xfrm>
        </p:grpSpPr>
        <p:sp>
          <p:nvSpPr>
            <p:cNvPr id="130" name="Rectangle 20"/>
            <p:cNvSpPr/>
            <p:nvPr/>
          </p:nvSpPr>
          <p:spPr>
            <a:xfrm>
              <a:off x="4397400" y="3201840"/>
              <a:ext cx="1676520" cy="1526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neurotransmit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 flipH="1">
              <a:off x="4321080" y="33544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9"/>
          <p:cNvGrpSpPr/>
          <p:nvPr/>
        </p:nvGrpSpPr>
        <p:grpSpPr>
          <a:xfrm>
            <a:off x="3863880" y="5563800"/>
            <a:ext cx="990720" cy="533880"/>
            <a:chOff x="3863880" y="5563800"/>
            <a:chExt cx="990720" cy="533880"/>
          </a:xfrm>
        </p:grpSpPr>
        <p:sp>
          <p:nvSpPr>
            <p:cNvPr id="133" name="Rectangle 23"/>
            <p:cNvSpPr/>
            <p:nvPr/>
          </p:nvSpPr>
          <p:spPr>
            <a:xfrm>
              <a:off x="4016520" y="5792760"/>
              <a:ext cx="76176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synap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3863880" y="5564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6"/>
            <p:cNvSpPr/>
            <p:nvPr/>
          </p:nvSpPr>
          <p:spPr>
            <a:xfrm>
              <a:off x="3863880" y="57164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 flipV="1">
              <a:off x="4854600" y="5563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8"/>
            <p:cNvSpPr/>
            <p:nvPr/>
          </p:nvSpPr>
          <p:spPr>
            <a:xfrm>
              <a:off x="4397400" y="57164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85820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ressants cause fewer action potent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533520" y="1346040"/>
            <a:ext cx="85820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y produce neurotransmitter that prevent impul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y slow release of neurotransmitter that generates impul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:\Documents and Settings\alpana.dubey\My Documents\Alpana\7TH_NOV\ch_29\New ch  ina's\bhspe-0929oi-002.gif"/>
          <p:cNvPicPr/>
          <p:nvPr/>
        </p:nvPicPr>
        <p:blipFill>
          <a:blip r:embed="rId1"/>
          <a:stretch/>
        </p:blipFill>
        <p:spPr>
          <a:xfrm>
            <a:off x="1676520" y="2720880"/>
            <a:ext cx="5638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57:04Z</dcterms:modified>
  <cp:revision>134</cp:revision>
  <dc:subject/>
  <dc:title>PowerPoint Presentation</dc:title>
</cp:coreProperties>
</file>